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5A61-BCF3-4E6F-98A0-EBA9DF09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BC9-05C8-4010-9C34-745734C65A2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C71-69D6-4A68-A6EB-2888B45A36A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41B-ED3A-48AA-A502-6B63B2D68AF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8DE-F0A1-4D22-B27C-6EC3460B4F2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28C1-D66C-4D9A-9080-F56A02E4AE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8C3-CD62-48D9-8385-778DBB11D4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F4B0-AD50-427A-98A5-51520A42E44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8C7-7569-438E-BD53-7A8059B562D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cteria &amp; yea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1161-D996-4DA1-B773-B8AD1AD346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d as primary energy pathway in some bacteria but can also be supplemental in many eukaryotes, e.g., 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A20E-1F6D-455C-B7E5-6DC7475EF42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060A-A2B2-4E64-90B7-EDD86B755D2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6B6-EEA4-45EE-9C0F-DC71E74C9D0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751B-C513-4107-A4D2-3791CA2EED8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63D-770E-418B-99AC-1C0325C3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A0A-442D-4932-B4C8-828C1EC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E80-6E91-4653-B14C-25C37471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746-83D2-4342-8EB7-0F33CF27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C31-E661-4756-B277-EFB05C08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B64-9397-4A70-88CA-B43C087B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5AA-BA56-465F-A9DC-770D4F3B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173-D07E-458D-BAEF-2C260C2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4E7-0496-47D8-8420-AA2CB09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576-25AA-4278-BCEA-333A2F1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9AF-BB91-4D05-B4E4-0AE256F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2CD-F86A-4937-98F7-80B4A539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9CA-FE2A-4BD7-A850-33002471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 Pathways (4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Alternatives To Glucose (4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br>
              <a:rPr sz="44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33440" y="1981080"/>
            <a:ext cx="46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br>
              <a:rPr sz="44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cademic.brooklyn.cuny.edu/biology/bio4fv/page/3d_pr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digested into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groups are then removed in a proces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99000" y="1981080"/>
            <a:ext cx="21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 reactions will convert the remaining part of the amino acids into intermediates of glycolysis o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4749840"/>
                <a:gridCol w="30222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e, cysteine, glycine, serine, threo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agine, aspar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, glutamate, glutamine, histidine, pro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eucine, methionine, va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in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e, ly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uture-of-technology.com/index.php?p=2_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fats digested by humans are triglycer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7576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lycerides are first digeste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yce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is either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n G3P), and enter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ty acids are transported to the matrix of the mitochondria and under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β-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-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tty acid chain is cleaved into 2-carbon acetyl groups, which are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etyl-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ente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 cleavage uses one ATP and produces one NADH and one FADH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people.eku.edu/ritchisong/RITCHISO/cellmetabolism.jpg"/>
          <p:cNvPicPr/>
          <p:nvPr/>
        </p:nvPicPr>
        <p:blipFill>
          <a:blip r:embed="rId1"/>
          <a:stretch/>
        </p:blipFill>
        <p:spPr>
          <a:xfrm>
            <a:off x="214200" y="1527120"/>
            <a:ext cx="857268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 of the pyruvate molecules depends on whether oxygen is present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rob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iration) or not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erob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i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entation is the anaerobic reduction of pyruvate to ethanol or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carboxylat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reduc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8120" y="4106880"/>
            <a:ext cx="3587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duc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2357280"/>
            <a:ext cx="38149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oducts of Fermentation</a:t>
            </a:r>
            <a:br>
              <a:rPr sz="40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xtbookofbacteriology.net/themicrobialworld/Eff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2200" y="1981080"/>
            <a:ext cx="38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karyotes have electron transport chains on internal membran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electron acceptor can b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erobic) or other molecules (anaerobic) such as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ternatives to Gluc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Related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lipids and nucleic acids can also be metabolized for energy by entering into a part of glycolysis o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2-03-27T17:12:17Z</dcterms:modified>
  <cp:revision>48</cp:revision>
  <dc:subject/>
  <dc:title>Anaerobic Pathways</dc:title>
</cp:coreProperties>
</file>